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384-98AC-46F2-8B91-1959B3F1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885-98C2-4FF5-93C0-31DA1F78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F1E-E22E-4A1C-9BA0-E3C69819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603-0BD0-4C70-90E3-D38FA1C5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6AD-6293-439A-B239-3C512F4E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C1C-60D3-4F79-B7DE-55DB47E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EF2-A549-49BC-A244-894722D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F7B-FCAF-400D-A802-5FC43E2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84F-C2A8-4AB3-A584-593E6E8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30-C894-43AF-804B-E7C7EF0D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9C7-DE57-4B01-AE69-9E15BE0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4E6-D2C2-4CD7-9190-7CC2DD5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EFF8-7141-4E33-81BD-5F47D5631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what is good about the following thesis stat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ages of decay and destruction in “Harlem” work together to emphasize the inevitable hopelessness of deferred rev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aker of “White City,” embodies the human trait of simultaneously loving the very thing that one h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metaphor of a dinner party, “I, Too” equates evolving racial relationships to evolving American cultural tas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sis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laim that is arguable and/or def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(not obv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more than a statement of personal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paper/presentation/etc a reason to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14:40Z</dcterms:created>
  <dc:creator>Administrator</dc:creator>
  <dc:description/>
  <dc:language>en-US</dc:language>
  <cp:lastModifiedBy>Administrator</cp:lastModifiedBy>
  <dcterms:modified xsi:type="dcterms:W3CDTF">2010-10-13T15:54:02Z</dcterms:modified>
  <cp:revision>4</cp:revision>
  <dc:subject/>
  <dc:title>Slide 1</dc:title>
</cp:coreProperties>
</file>